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CED-ABEB-4714-8FCF-45D45FBA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594-DA22-49FD-A13D-3C65EF930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D8F-E508-4B41-96AB-33ABE0EC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8451-F117-40C9-9ACC-C62017AE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4EA9-9994-4C0A-8BE5-E9595244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CEA8-A2EB-4EFC-BD2F-19655E86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F963-2C6A-44A9-A1E7-E81D0BD1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FAF-23BF-4EA2-942F-35024D53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143-6441-4117-BEE3-10E1A44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B21-0D56-43FC-ADB8-F622D20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CCA-81F9-4CD0-A6A9-44BEC832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9E07-7642-4440-AF58-6CA0F886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FE4-B1FE-49DA-8DE6-AAF2B429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B6EA-799E-47B3-AB95-1311FEC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72D1-328A-4AF3-9140-C4FAB0A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35D-25DE-485F-BF52-29F2A12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96F-99D3-4753-A1A8-62BF6CD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B7B-43C6-4A3E-B946-7E34126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2BE-2613-465A-A5CC-57A6988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7700-7DEA-467F-A6A9-FC78BB4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97D1-57EB-48BD-A9F1-A516C9A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C93-FA79-4542-B42F-A88B999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B0E-ACF8-4FA3-A155-085B3474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7B1-1678-43B7-BDD5-ABA05746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BF2-C0C4-4B9F-B231-795271D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455-918C-462C-9DB0-CD3A5604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D2A-F067-4857-91AD-C02E3F3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E39-10EF-434F-8BD4-A03A0BA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A1B-A8B9-4714-BAB4-A71E9A1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FFF-6C8E-431C-8859-2B366DC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C6F-FBA1-49F1-AF32-12E7C42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4646-63FD-464C-B711-EF8AF6E7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9EE-5885-40AF-B135-5553DD88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3.02C Website Organization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Information Archite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mission/purpose of the web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 (e-Comme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oals of th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arget au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competitive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6019920" y="2438280"/>
            <a:ext cx="2743200" cy="2654280"/>
            <a:chOff x="6019920" y="2438280"/>
            <a:chExt cx="2743200" cy="2654280"/>
          </a:xfrm>
        </p:grpSpPr>
        <p:pic>
          <p:nvPicPr>
            <p:cNvPr id="100" name="Picture 4" descr="MPj03847350000[1]"/>
            <p:cNvPicPr/>
            <p:nvPr/>
          </p:nvPicPr>
          <p:blipFill>
            <a:blip r:embed="rId1"/>
            <a:stretch/>
          </p:blipFill>
          <p:spPr>
            <a:xfrm>
              <a:off x="6019920" y="2438280"/>
              <a:ext cx="274320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6"/>
            <p:cNvSpPr/>
            <p:nvPr/>
          </p:nvSpPr>
          <p:spPr>
            <a:xfrm>
              <a:off x="6858000" y="3200400"/>
              <a:ext cx="1066680" cy="990720"/>
            </a:xfrm>
            <a:prstGeom prst="ellipse">
              <a:avLst/>
            </a:prstGeom>
            <a:solidFill>
              <a:srgbClr val="f314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cdcc"/>
                  </a:solidFill>
                  <a:latin typeface="Arial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Information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the content of the web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deo, Audio, 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website structure and navig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Linear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s view pages one at a time in a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pics are arranged in chronological, alphabetical, or series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ges have links to the next page and back to previous or index page on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for pages that need to be read or completed in a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by-step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nearwebsite"/>
          <p:cNvPicPr/>
          <p:nvPr/>
        </p:nvPicPr>
        <p:blipFill>
          <a:blip r:embed="rId1"/>
          <a:srcRect l="0" t="0" r="25455" b="68266"/>
          <a:stretch/>
        </p:blipFill>
        <p:spPr>
          <a:xfrm>
            <a:off x="1600200" y="5410080"/>
            <a:ext cx="62485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Webbed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ers to jump to any page on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ites with a few inter-relate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of the viewing doesn’t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onsistent or user will get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vigation bars or menus are included on all p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webbedwebsite"/>
          <p:cNvPicPr/>
          <p:nvPr/>
        </p:nvPicPr>
        <p:blipFill>
          <a:blip r:embed="rId1"/>
          <a:stretch/>
        </p:blipFill>
        <p:spPr>
          <a:xfrm>
            <a:off x="4800600" y="2819520"/>
            <a:ext cx="38703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Hierarchical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s like a family tree or like a chain of comma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organize large amounts of informati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categories and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categ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st way to organize complex bodies of infor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ierarchialwebsite"/>
          <p:cNvPicPr/>
          <p:nvPr/>
        </p:nvPicPr>
        <p:blipFill>
          <a:blip r:embed="rId1"/>
          <a:stretch/>
        </p:blipFill>
        <p:spPr>
          <a:xfrm>
            <a:off x="5181480" y="2209680"/>
            <a:ext cx="3611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2:42:01Z</dcterms:created>
  <dc:creator>Lee O'Neal</dc:creator>
  <dc:description/>
  <dc:language>en-US</dc:language>
  <cp:lastModifiedBy>ycsadmin</cp:lastModifiedBy>
  <dcterms:modified xsi:type="dcterms:W3CDTF">2011-07-01T19:30:46Z</dcterms:modified>
  <cp:revision>43</cp:revision>
  <dc:subject/>
  <dc:title>Web Site Development  Competency 8 Create a multimedia web site.</dc:title>
</cp:coreProperties>
</file>